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7.wmf" ContentType="image/x-wmf"/>
  <Override PartName="/ppt/media/image26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99840" y="4511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116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9840" y="4511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1160" y="4511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6000" y="236232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2160" y="236232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99840" y="4511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6000" y="4511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2160" y="4511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1160" y="236232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6553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236232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9840" y="4511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31160" y="4511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116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4511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9840" y="4511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3116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9840" y="4511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31160" y="4511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96000" y="236232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92160" y="236232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9840" y="4511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96000" y="4511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92160" y="4511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236232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6553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1160" y="236232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99840" y="4511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116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1160" y="4511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65320"/>
            <a:ext cx="6553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1160" y="236232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99840" y="4511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8915400" cy="228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00800"/>
            <a:ext cx="3200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新細明體"/>
              </a:rPr>
              <a:t>Confidential And Proprietary Inform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719280"/>
          <a:ext cx="9144000" cy="19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19280"/>
                    <a:ext cx="9144000" cy="1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0" y="990720"/>
            <a:ext cx="9144000" cy="1066680"/>
          </a:xfrm>
          <a:prstGeom prst="rect">
            <a:avLst/>
          </a:prstGeom>
          <a:solidFill>
            <a:srgbClr val="747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108000" bIns="0" anchor="ctr" anchorCtr="1">
            <a:noAutofit/>
          </a:bodyPr>
          <a:p>
            <a:pPr marL="380880" algn="ctr">
              <a:lnSpc>
                <a:spcPts val="3399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228600" y="4114800"/>
            <a:ext cx="974880" cy="1219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228600" y="5410080"/>
            <a:ext cx="974880" cy="12193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228600" y="2819520"/>
            <a:ext cx="97488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66680"/>
            <a:ext cx="8915400" cy="228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6400800"/>
            <a:ext cx="3200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新細明體"/>
              </a:rPr>
              <a:t>Confidential And Proprietary Inform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719280"/>
          <a:ext cx="9144000" cy="36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19280"/>
                    <a:ext cx="91440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1066680"/>
            <a:ext cx="9144000" cy="1262160"/>
          </a:xfrm>
          <a:prstGeom prst="rect">
            <a:avLst/>
          </a:prstGeom>
          <a:solidFill>
            <a:srgbClr val="747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108000" bIns="0" anchor="ctr" anchorCtr="1">
            <a:noAutofit/>
          </a:bodyPr>
          <a:p>
            <a:pPr marL="380880" algn="ctr">
              <a:lnSpc>
                <a:spcPts val="3399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hyperlink" Target="file:///../../../Desktop/2010&#25976;&#20301;&#20839;&#23481;&#36913;/&#32769;&#40441;&#33287;&#40232;&#23376;.pps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hyperlink" Target="file:///../../../Desktop/2010&#25976;&#20301;&#20839;&#23481;&#36913;/&#32769;&#40441;&#33287;&#40232;&#23376;.pps" TargetMode="External"/><Relationship Id="rId6" Type="http://schemas.openxmlformats.org/officeDocument/2006/relationships/hyperlink" Target="file:///../../../Desktop/2010&#25976;&#20301;&#20839;&#23481;&#36913;/&#25105;&#21482;&#26159;&#20358;&#36023;&#25163;&#27231;&#30340;_(360p).mp4" TargetMode="Externa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7.wmf"/><Relationship Id="rId8" Type="http://schemas.openxmlformats.org/officeDocument/2006/relationships/hyperlink" Target="file:///../../../Desktop/2010&#25976;&#20301;&#20839;&#23481;&#36913;/&#25105;&#21482;&#26159;&#20358;&#36023;&#25163;&#27231;&#30340;_(360p).mp4" TargetMode="External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81518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行動應用新浪潮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066680"/>
          <a:ext cx="914400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572000" y="515772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行動應用聯盟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MAC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會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擎天數位 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Digital Group C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葉 冠 義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496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台灣行動通信概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47280" y="2133720"/>
            <a:ext cx="727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根據國家通訊傳播委員會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C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）資料顯示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年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季台灣的行動通信用戶數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,72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萬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24960" y="652104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來源：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資策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FIND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19280" y="2881440"/>
            <a:ext cx="532908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8930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3G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用戶數達行動總用戶數六成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00200" y="2361960"/>
            <a:ext cx="707544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G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用戶則持續穩定成長中，已占台灣行動通信總門號數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1.0%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24960" y="63082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來源：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資策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FIND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63640" y="3429000"/>
            <a:ext cx="55436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0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行動上網比例提升至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68.2%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19280" y="2205000"/>
            <a:ext cx="6859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年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季手機開通行動上網功能之用戶數持續成長，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,85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萬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7960" y="623700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來源：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資策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FIND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35280" y="3081240"/>
            <a:ext cx="41050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3G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行動上網比例達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8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19280" y="2204640"/>
            <a:ext cx="7004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數據用戶較上一季成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.2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占總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79.9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PR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只剩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.8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31240" y="63082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來源：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資策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FIND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4897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71280" y="1125000"/>
            <a:ext cx="73040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每門號每月使用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18.9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則文字簡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99840" y="2361960"/>
            <a:ext cx="693252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平均單月簡訊則數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.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億則，相當於每個門號每月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.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則簡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在美國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75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的青少年使用手機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5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的青少年每天發送超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條的簡信。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24960" y="6165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料來源：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資策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FIND</a:t>
            </a: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5184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Verdana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2819520"/>
            <a:ext cx="366840" cy="457200"/>
          </a:xfrm>
          <a:custGeom>
            <a:avLst/>
            <a:gdLst/>
            <a:ahLst/>
            <a:rect l="l" t="t" r="r" b="b"/>
            <a:pathLst>
              <a:path w="48" h="432">
                <a:moveTo>
                  <a:pt x="0" y="0"/>
                </a:moveTo>
                <a:lnTo>
                  <a:pt x="0" y="432"/>
                </a:lnTo>
                <a:lnTo>
                  <a:pt x="48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559080" cy="609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553080" y="981000"/>
            <a:ext cx="259092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558720" cy="609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2133720" y="228600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229" name="">
            <a:hlinkClick r:id="rId5"/>
          </p:cNvPr>
          <p:cNvSpPr/>
          <p:nvPr/>
        </p:nvSpPr>
        <p:spPr>
          <a:xfrm>
            <a:off x="2124000" y="3789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灣行動應用概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電信加值服務發展沿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Verdana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990720"/>
            <a:ext cx="259092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2166840"/>
          <a:ext cx="7315200" cy="45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66840"/>
                    <a:ext cx="731520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693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全球數據服務成長概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635280" y="2205000"/>
            <a:ext cx="558720" cy="609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865600" y="2205000"/>
            <a:ext cx="558720" cy="609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403280" y="2205000"/>
            <a:ext cx="558720" cy="6094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187720" y="220500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69236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3321720"/>
            <a:ext cx="71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>
              <a:lnSpc>
                <a:spcPct val="100000"/>
              </a:lnSpc>
              <a:buClr>
                <a:srgbClr val="cc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新細明體"/>
                <a:ea typeface="新細明體"/>
              </a:rPr>
              <a:t>Vodafone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數據服務營收（不含簡訊）成長近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buClr>
                <a:srgbClr val="cc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新細明體"/>
                <a:ea typeface="新細明體"/>
              </a:rPr>
              <a:t>AT&amp;T</a:t>
            </a:r>
            <a:r>
              <a:rPr b="1" lang="zh-TW" sz="2400" spc="-1" strike="noStrike">
                <a:solidFill>
                  <a:srgbClr val="cc6600"/>
                </a:solidFill>
                <a:latin typeface="新細明體"/>
                <a:ea typeface="新細明體"/>
              </a:rPr>
              <a:t>與</a:t>
            </a:r>
            <a:r>
              <a:rPr b="1" lang="en-US" sz="2400" spc="-1" strike="noStrike">
                <a:solidFill>
                  <a:srgbClr val="cc6600"/>
                </a:solidFill>
                <a:latin typeface="新細明體"/>
                <a:ea typeface="新細明體"/>
              </a:rPr>
              <a:t>Verizon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的無線數據服務成長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38.6%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，達到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32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億美元，該數字占當季總營收的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7.2%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buClr>
                <a:srgbClr val="cc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新細明體"/>
                <a:ea typeface="新細明體"/>
              </a:rPr>
              <a:t>澳洲</a:t>
            </a:r>
            <a:r>
              <a:rPr b="1" lang="en-US" sz="2400" spc="-1" strike="noStrike">
                <a:solidFill>
                  <a:srgbClr val="cc6600"/>
                </a:solidFill>
                <a:latin typeface="新細明體"/>
                <a:ea typeface="新細明體"/>
              </a:rPr>
              <a:t>Telstra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及全球其他業者也都享有類似的營收增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5589720"/>
            <a:ext cx="6912000" cy="9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G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行動寬頻服務是電信營運商的及時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2803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台灣電信數據服務成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6920" y="2421000"/>
            <a:ext cx="770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中華電信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今年上半年行動加值營收達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億元，年增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.6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其中行動上網營收成長率更高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7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年輕用戶比率最高的</a:t>
            </a:r>
            <a:r>
              <a:rPr b="1" lang="zh-TW" sz="28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遠傳電信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目前手機加值服務比重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6.7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亦積極搶攻校園學生用戶及蘋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Phone 4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預期今年底加值服務佔比可挑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台灣大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數據營收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季持續穩健成長，已達整體電信服務營收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；其中，來自行動上網的營收已超過總數據營收的一半，未來將隨著更多平價智慧型手機的推出而持續成長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97080" y="112500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智慧型手機普及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63280" y="2852640"/>
            <a:ext cx="6551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根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I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等研究機構的數據顯示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1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年底全球智慧型手機佔整體市場比重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在台灣，智慧型手機普及率在今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月就衝高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6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高於全球市場平均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預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1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年底前會衝高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0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內容綱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990720"/>
            <a:ext cx="259092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048120"/>
            <a:ext cx="2743200" cy="533160"/>
          </a:xfrm>
          <a:custGeom>
            <a:avLst/>
            <a:gdLst/>
            <a:ahLst/>
            <a:rect l="l" t="t" r="r" b="b"/>
            <a:pathLst>
              <a:path w="48" h="432">
                <a:moveTo>
                  <a:pt x="0" y="0"/>
                </a:moveTo>
                <a:lnTo>
                  <a:pt x="0" y="432"/>
                </a:lnTo>
                <a:lnTo>
                  <a:pt x="48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335268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1   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行動應用聯盟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38280" y="2349360"/>
            <a:ext cx="559080" cy="55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00400" y="234936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962520" y="236232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1676520" y="2349360"/>
            <a:ext cx="558720" cy="559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43200" y="2971800"/>
            <a:ext cx="1973160" cy="1177920"/>
          </a:xfrm>
          <a:custGeom>
            <a:avLst/>
            <a:gdLst/>
            <a:ahLst/>
            <a:rect l="l" t="t" r="r" b="b"/>
            <a:pathLst>
              <a:path w="48" h="432">
                <a:moveTo>
                  <a:pt x="0" y="0"/>
                </a:moveTo>
                <a:lnTo>
                  <a:pt x="0" y="432"/>
                </a:lnTo>
                <a:lnTo>
                  <a:pt x="48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2997360"/>
            <a:ext cx="1295640" cy="1726920"/>
          </a:xfrm>
          <a:custGeom>
            <a:avLst/>
            <a:gdLst/>
            <a:ahLst/>
            <a:rect l="l" t="t" r="r" b="b"/>
            <a:pathLst>
              <a:path w="48" h="432">
                <a:moveTo>
                  <a:pt x="0" y="0"/>
                </a:moveTo>
                <a:lnTo>
                  <a:pt x="0" y="432"/>
                </a:lnTo>
                <a:lnTo>
                  <a:pt x="48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2997360"/>
            <a:ext cx="431640" cy="2232000"/>
          </a:xfrm>
          <a:custGeom>
            <a:avLst/>
            <a:gdLst/>
            <a:ahLst/>
            <a:rect l="l" t="t" r="r" b="b"/>
            <a:pathLst>
              <a:path w="48" h="432">
                <a:moveTo>
                  <a:pt x="0" y="0"/>
                </a:moveTo>
                <a:lnTo>
                  <a:pt x="0" y="432"/>
                </a:lnTo>
                <a:lnTo>
                  <a:pt x="48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393372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信市場概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45086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3   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灣行動應用概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501336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4    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新浪潮來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82803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92000" y="2708280"/>
            <a:ext cx="6877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蘋果公司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&amp;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Phon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預購系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/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日完全癱瘓，原因是預購首日的銷售量過大，創下前所未有的記錄。單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日當天，蘋果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&amp;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總共賣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萬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Phone 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智慧手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韓國開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Phone 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訂購，才短短一個禮拜就訂購超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萬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台灣電信業者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8/2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開放預購，中華電信網站一度塞爆，單日湧入四萬筆訂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341360"/>
            <a:ext cx="82803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台灣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iPhone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預購量一週超過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14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萬支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63280" y="1196640"/>
            <a:ext cx="63183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低價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Smart Phone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的時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18920" y="234936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Verdana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559080" cy="609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843280" y="227664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>
            <a:off x="9074160" y="981000"/>
            <a:ext cx="69840" cy="1079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558720" cy="609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2133720" y="228600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476360" y="314172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6400" indent="-806400">
              <a:lnSpc>
                <a:spcPct val="100000"/>
              </a:lnSpc>
              <a:buClr>
                <a:srgbClr val="000000"/>
              </a:buClr>
              <a:buFont typeface="新細明體"/>
              <a:buChar char="•"/>
              <a:tabLst>
                <a:tab algn="l" pos="6271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日前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TWN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發布的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T2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小綠人機，單機價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千元不到，創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Android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手機市場最低價格；預估明年底時會有低於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千元的智慧手機出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6400" indent="-806400">
              <a:lnSpc>
                <a:spcPct val="100000"/>
              </a:lnSpc>
              <a:buClr>
                <a:srgbClr val="000000"/>
              </a:buClr>
              <a:buFont typeface="新細明體"/>
              <a:buChar char="•"/>
              <a:tabLst>
                <a:tab algn="l" pos="62712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T2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由中興通訊生產，搭載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Android 2.1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作業系統和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320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萬畫素相機、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.8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吋全觸控及手寫螢幕，機身僅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公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5805360"/>
            <a:ext cx="7273800" cy="8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66ff"/>
                </a:solidFill>
                <a:latin typeface="Times New Roman"/>
                <a:ea typeface="標楷體"/>
              </a:rPr>
              <a:t>連學生也用的起的小綠人</a:t>
            </a:r>
            <a:r>
              <a:rPr b="1" lang="en-US" sz="4000" spc="-1" strike="noStrike">
                <a:solidFill>
                  <a:srgbClr val="6666ff"/>
                </a:solidFill>
                <a:latin typeface="Times New Roman"/>
                <a:ea typeface="標楷體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028000" y="4290840"/>
            <a:ext cx="808200" cy="1009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364000" y="5791320"/>
            <a:ext cx="854280" cy="10666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8028000" y="2781360"/>
            <a:ext cx="869760" cy="108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588000" y="5772240"/>
            <a:ext cx="868320" cy="1085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8028000" y="5661000"/>
            <a:ext cx="868320" cy="10857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771640" y="1125360"/>
            <a:ext cx="3097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用戶的體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03280" y="2924280"/>
            <a:ext cx="6440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32000" y="2708280"/>
            <a:ext cx="626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手機功能、解析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傳輸的速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傳輸的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輸入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03280" y="2133720"/>
            <a:ext cx="25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99"/>
                </a:solidFill>
                <a:latin typeface="Times New Roman"/>
                <a:ea typeface="標楷體"/>
              </a:rPr>
              <a:t>過去的障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4797360"/>
            <a:ext cx="525636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cc99"/>
                </a:solidFill>
                <a:latin typeface="Times New Roman"/>
                <a:ea typeface="標楷體"/>
              </a:rPr>
              <a:t>現在聽聽看達人怎麼說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標楷體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84000" y="4292640"/>
            <a:ext cx="554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標楷體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618920" y="234936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Verdana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2819520"/>
            <a:ext cx="366840" cy="457200"/>
          </a:xfrm>
          <a:custGeom>
            <a:avLst/>
            <a:gdLst/>
            <a:ahLst/>
            <a:rect l="l" t="t" r="r" b="b"/>
            <a:pathLst>
              <a:path w="48" h="432">
                <a:moveTo>
                  <a:pt x="0" y="0"/>
                </a:moveTo>
                <a:lnTo>
                  <a:pt x="0" y="432"/>
                </a:lnTo>
                <a:lnTo>
                  <a:pt x="48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559080" cy="6094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553080" y="981000"/>
            <a:ext cx="259092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558720" cy="609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2133720" y="228600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277" name="">
            <a:hlinkClick r:id="rId5"/>
          </p:cNvPr>
          <p:cNvSpPr/>
          <p:nvPr/>
        </p:nvSpPr>
        <p:spPr>
          <a:xfrm>
            <a:off x="539640" y="3068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808080"/>
                </a:solidFill>
                <a:latin typeface="Times New Roman"/>
                <a:ea typeface="標楷體"/>
              </a:rPr>
              <a:t>行動應用新浪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6"/>
          </p:cNvPr>
          <p:cNvSpPr/>
          <p:nvPr/>
        </p:nvSpPr>
        <p:spPr>
          <a:xfrm>
            <a:off x="2124000" y="4221000"/>
            <a:ext cx="583272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誰打開了潘朵拉的盒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都是蘋果惹的禍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618920" y="234936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185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Phone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的使用者認為他們的滿意體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並非是在美國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Phone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提供通話服務的獨家供應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&amp;T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所帶來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反而都認為是</a:t>
            </a:r>
            <a:r>
              <a:rPr b="0" lang="zh-TW" sz="32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蘋果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為他們提供了愉快的使用者體驗。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95640" y="5445000"/>
            <a:ext cx="518472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66ff"/>
                </a:solidFill>
                <a:latin typeface="Times New Roman"/>
                <a:ea typeface="標楷體"/>
              </a:rPr>
              <a:t>超過期望的愉快體驗</a:t>
            </a:r>
            <a:r>
              <a:rPr b="1" lang="en-US" sz="4000" spc="-1" strike="noStrike">
                <a:solidFill>
                  <a:srgbClr val="6666ff"/>
                </a:solidFill>
                <a:latin typeface="Times New Roman"/>
                <a:ea typeface="標楷體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2525760" cy="25257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320" y="1295280"/>
            <a:ext cx="807840" cy="1009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60480" y="2362320"/>
            <a:ext cx="853920" cy="10666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76320" y="3486240"/>
            <a:ext cx="869760" cy="1085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76320" y="4629240"/>
            <a:ext cx="868320" cy="1085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"/>
          <a:stretch/>
        </p:blipFill>
        <p:spPr>
          <a:xfrm>
            <a:off x="76320" y="5772240"/>
            <a:ext cx="868320" cy="10857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276720" y="2781360"/>
            <a:ext cx="5543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Smart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加值服務的影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7"/>
          <a:stretch/>
        </p:blipFill>
        <p:spPr>
          <a:xfrm>
            <a:off x="1619280" y="2637000"/>
            <a:ext cx="1539720" cy="1620720"/>
          </a:xfrm>
          <a:prstGeom prst="rect">
            <a:avLst/>
          </a:prstGeom>
          <a:ln w="0">
            <a:noFill/>
          </a:ln>
        </p:spPr>
      </p:pic>
      <p:sp>
        <p:nvSpPr>
          <p:cNvPr id="290" name="">
            <a:hlinkClick r:id="rId8"/>
          </p:cNvPr>
          <p:cNvSpPr/>
          <p:nvPr/>
        </p:nvSpPr>
        <p:spPr>
          <a:xfrm>
            <a:off x="1692360" y="4941720"/>
            <a:ext cx="4464000" cy="107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Times New Roman"/>
                <a:ea typeface="標楷體"/>
              </a:rPr>
              <a:t>音樂、遊戲、社群、</a:t>
            </a:r>
            <a:r>
              <a:rPr b="1" lang="en-US" sz="3200" spc="-1" strike="noStrike">
                <a:solidFill>
                  <a:srgbClr val="6666ff"/>
                </a:solidFill>
                <a:latin typeface="Times New Roman"/>
                <a:ea typeface="標楷體"/>
              </a:rPr>
              <a:t>TV?</a:t>
            </a:r>
            <a:r>
              <a:rPr b="1" lang="en-US" sz="4000" spc="-1" strike="noStrike">
                <a:solidFill>
                  <a:srgbClr val="6666ff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流行音樂帶著走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實體唱片販售已不再是主流，虛擬結合雲端提供隨時隨地、任何載具音樂帶著走的服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除了一般網路的串流線上音樂服務，手機儼然已成為另一線上音樂的主要平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根據統計，韓國是目前全亞洲最大的線上音樂市場，有超過九成的營收皆是來自於網路線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音樂帶著走手機結合音樂是當下最受歡迎的模式，手機儼然成為過去所流行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lkman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0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2010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年全球手機遊戲市場↑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19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智慧型手機風潮蔓延，連帶著手機下載服務備受看好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tne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新預估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年全球手機遊戲市場銷售營收將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億美元，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年增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持續成長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1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年市場規模可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億美元，手機遊戲下載量以免費為大宗，佔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成。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tne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表示，媒體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 Stor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的宣傳有利於手機遊戲市場的增長，預期多數手機遊戲廠商將朝向「免費」遊戲發展，但</a:t>
            </a:r>
            <a:r>
              <a:rPr b="1" lang="zh-TW" sz="2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行動廣告贊助的模式在未來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3</a:t>
            </a:r>
            <a:r>
              <a:rPr b="1" lang="zh-TW" sz="2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年內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不一定會有突破性進展。 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依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tne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估計，手機遊戲占整體行動消費應用程式下載量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成，手機遊戲小額付費方式的逐步盛行也有助提高全球手機遊戲普及率。 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684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手機遊戲結合廣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在智慧型的手機發展下，也將有助手機遊戲產業的進步，又手機遊戲是可以最自然的內嵌廣告，透過內嵌廣告，使用者的下載使用，讓此一手機遊戲市場具有穩定性的成長。其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ki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vi Stor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以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l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unes App Stor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都是主要的手機遊戲銷售通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0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年以來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ogle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US$7.5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億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併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mo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l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併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attro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ra Mini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合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Marve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這些國際大廠在佈什麼局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行動社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619280" y="2636640"/>
            <a:ext cx="7129440" cy="37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cebook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讓使用者透過手機連線上網便能隨時隨地掌握所有交友社群的狀態，並且能夠即時回覆朋友的訊息、隨時了解朋友現在在做什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l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推出社群網路交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Pin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結合音樂與交友的網路平台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n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就像個音樂交流中心，使用者可以將喜愛的音樂與好友們在網路上分享，或是藉由音樂擴大交友圈，這套系統上線後、初步將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國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億用戶受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2193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MAC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的介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234936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Verdana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2819520"/>
            <a:ext cx="366840" cy="457200"/>
          </a:xfrm>
          <a:custGeom>
            <a:avLst/>
            <a:gdLst/>
            <a:ahLst/>
            <a:rect l="l" t="t" r="r" b="b"/>
            <a:pathLst>
              <a:path w="48" h="432">
                <a:moveTo>
                  <a:pt x="0" y="0"/>
                </a:moveTo>
                <a:lnTo>
                  <a:pt x="0" y="432"/>
                </a:lnTo>
                <a:lnTo>
                  <a:pt x="48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559080" cy="609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553080" y="990720"/>
            <a:ext cx="2590920" cy="1066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55872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133720" y="228600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956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0720" y="299736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3400" indent="-45720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成立於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3400" indent="-45720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多家成員為台灣目前行動服務提供的主力業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3400" indent="-45720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跨足音樂、遊戲、社群、動漫、閱讀、商務、電視等不同領域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3400" indent="-45720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由內容供應、應用服務業者組成，建立與電信、手機商間的策略聯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34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803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三網合一下的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31640" y="2453760"/>
            <a:ext cx="756108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ogl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是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/2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舊金山舉行的年度開發者會議上，宣布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n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ob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st Buy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h Network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與羅技等業者合作開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ogle TV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說服電視觀眾將放在客廳的電視機，改造為最新的上網工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Google TV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提供使用者從電視機造訪任何網站的服務，此外也能讓人無需翻閱電視節目表，就能輕鬆地搜尋電視節目與網路影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蘋果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今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9/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的年度盛會上推出新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le TV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 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/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尺寸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$9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低價上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912000" y="5184720"/>
            <a:ext cx="22320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2803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從娛樂轉向生活應用服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08000" y="2781360"/>
            <a:ext cx="5616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無線閱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手機金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行動照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手機支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手機購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行動定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新技術結合生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7417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擴增實境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gmented Reality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簡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）</a:t>
            </a: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新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手機，可以把各種資訊直接呈現在螢幕上，和影像結合，這種科技就叫做「擴增實境」，或者簡稱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如果到台北旅遊，走在擁擠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街頭，去哪裡找最近的地鐵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?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拿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手機，用攝影機鏡頭掃描周圍的建築物，地鐵站就在這裡，究竟是怎麼辦到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手機知有內建羅盤、衛星定位，結合攝影機所以能將實境呈現在螢幕上，將所有這些整合在一起，這就是「擴增實境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28036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Wimax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持續觀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32000" y="2453760"/>
            <a:ext cx="763272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C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公布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99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年行動通信業務營運概況報告中，指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MA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用戶數大約只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萬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統計至今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月底，台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行動電話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B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無線寬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WiMAX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的用戶數與營收狀況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用戶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75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萬最多，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用戶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87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萬的兩倍；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MA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用戶數只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3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萬人，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家已開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MA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業者計算，平均一家用戶數不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該報告並指出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MAX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業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月營收共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3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萬元，亦即平均都不到百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119628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1900" spc="-1" strike="noStrike">
                <a:solidFill>
                  <a:srgbClr val="000000"/>
                </a:solidFill>
                <a:latin typeface="Times New Roman"/>
                <a:ea typeface="標楷體"/>
              </a:rPr>
              <a:t> 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 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科技始終來自於人性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)-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情人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58920" y="2205000"/>
            <a:ext cx="70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Kiss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Phone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螢幕然後選擇背景，就可以透過電子郵件把你的唇印寄給你的情人了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627280" y="2852640"/>
            <a:ext cx="5113440" cy="38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85694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科技始終來自於人性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(2)-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手機聽診器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19280" y="2707920"/>
            <a:ext cx="700416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新的</a:t>
            </a:r>
            <a:r>
              <a:rPr b="1" lang="zh-TW" sz="2400" spc="-1" strike="noStrike">
                <a:solidFill>
                  <a:srgbClr val="cc6600"/>
                </a:solidFill>
                <a:latin typeface="Times New Roman"/>
                <a:ea typeface="新細明體"/>
              </a:rPr>
              <a:t>智慧型手機聽診程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只要把手機的麥克風，貼在靠近心臟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個特殊位置，就能清楚聽到心跳聲，還能錄音，幫方便醫生作遠端診斷，剛上市，吸引全球超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萬個醫生下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508720" y="4797360"/>
            <a:ext cx="27432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5796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灣行動浪潮即將起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Verdana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3800" y="2427120"/>
            <a:ext cx="663840" cy="16524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2066760" y="2131920"/>
            <a:ext cx="559080" cy="5587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747880" y="213372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1371600" y="213372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835280" y="292428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cc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新細明體"/>
                <a:ea typeface="新細明體"/>
              </a:rPr>
              <a:t>普及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-─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般智慧手機的用戶大多是原本就有頻繁上網需求的專業人士，但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iPhone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手機有機會吸引到原本不需經常上網的使用族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buClr>
                <a:srgbClr val="cc66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新細明體"/>
                <a:ea typeface="新細明體"/>
              </a:rPr>
              <a:t>創意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- 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服務型態已經出現、行動設備已經成熟，行動應用市場在臺發展，只缺臨門一腳，就是出現大量使用者。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2010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Smartphone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普及率的發展值得觀察，只要越過關鍵規模的門檻，台灣行動浪潮就會起飛。</a:t>
            </a:r>
            <a:r>
              <a:rPr b="1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894120" y="3211200"/>
            <a:ext cx="310032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160" y="1781280"/>
            <a:ext cx="9105840" cy="507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9920" y="3200400"/>
            <a:ext cx="60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59960" y="3213000"/>
            <a:ext cx="810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ff"/>
                </a:solidFill>
                <a:latin typeface="Arial"/>
                <a:ea typeface="新細明體"/>
              </a:rPr>
              <a:t>Chin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07664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"/>
                <a:ea typeface="新細明體"/>
              </a:rPr>
              <a:t>Hong K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3352680"/>
            <a:ext cx="60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3962520"/>
            <a:ext cx="60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60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7400" y="3962520"/>
            <a:ext cx="957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ff"/>
                </a:solidFill>
                <a:latin typeface="Arial"/>
                <a:ea typeface="新細明體"/>
              </a:rPr>
              <a:t>Taiw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933720"/>
            <a:ext cx="60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572000"/>
            <a:ext cx="609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24520" y="4648320"/>
            <a:ext cx="1279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ff"/>
                </a:solidFill>
                <a:latin typeface="Arial"/>
                <a:ea typeface="新細明體"/>
              </a:rPr>
              <a:t>Singapo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715000"/>
            <a:ext cx="60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4653000"/>
            <a:ext cx="60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4365720"/>
            <a:ext cx="60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91560" y="2997360"/>
            <a:ext cx="837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ff"/>
                </a:solidFill>
                <a:latin typeface="Arial"/>
                <a:ea typeface="新細明體"/>
              </a:rPr>
              <a:t>Jap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4797360"/>
            <a:ext cx="6094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3429000"/>
            <a:ext cx="823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ff"/>
                </a:solidFill>
                <a:latin typeface="Arial"/>
                <a:ea typeface="新細明體"/>
              </a:rPr>
              <a:t>Kor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876920"/>
            <a:ext cx="609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9792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C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發展策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3429000"/>
            <a:ext cx="170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ff"/>
                </a:solidFill>
                <a:latin typeface="Arial"/>
                <a:ea typeface="新細明體"/>
              </a:rPr>
              <a:t>US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3429000"/>
            <a:ext cx="170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ff"/>
                </a:solidFill>
                <a:latin typeface="Arial"/>
                <a:ea typeface="新細明體"/>
              </a:rPr>
              <a:t>US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3500280"/>
            <a:ext cx="17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  <a:ea typeface="新細明體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734080"/>
            <a:ext cx="7415280" cy="79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結盟對象初期以中國及亞太區為主，並擴及歐美業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1800360" y="2254320"/>
            <a:ext cx="1331640" cy="415800"/>
          </a:xfrm>
          <a:prstGeom prst="rect">
            <a:avLst/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現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835280" y="3284640"/>
            <a:ext cx="1331640" cy="377640"/>
          </a:xfrm>
          <a:prstGeom prst="rect">
            <a:avLst/>
          </a:prstGeom>
          <a:solidFill>
            <a:srgbClr val="d97300"/>
          </a:solidFill>
          <a:ln w="2556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機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835280" y="4221000"/>
            <a:ext cx="1331640" cy="365400"/>
          </a:xfrm>
          <a:prstGeom prst="rect">
            <a:avLst/>
          </a:prstGeom>
          <a:solidFill>
            <a:srgbClr val="e0ad12"/>
          </a:solidFill>
          <a:ln w="2556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策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1835280" y="5157720"/>
            <a:ext cx="1331640" cy="338040"/>
          </a:xfrm>
          <a:prstGeom prst="rect">
            <a:avLst/>
          </a:prstGeom>
          <a:solidFill>
            <a:srgbClr val="a1a646"/>
          </a:solidFill>
          <a:ln w="2556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定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213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010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全球電信產業正由導入期邁向拓展期，朝向多樣化應用發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835280" y="6021360"/>
            <a:ext cx="1331640" cy="370080"/>
          </a:xfrm>
          <a:prstGeom prst="rect">
            <a:avLst/>
          </a:prstGeom>
          <a:solidFill>
            <a:srgbClr val="b1a35d"/>
          </a:solidFill>
          <a:ln w="2556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  <a:ea typeface="標楷體"/>
              </a:rPr>
              <a:t>目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595008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凝聚產業力量及創造共榮的產業環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3141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新平台與新載具產生，引領溝通型態變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407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立足自有品牌新應用、延伸數位內容通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14920" y="5084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新應用的促成者，媒合應用的整合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052640"/>
            <a:ext cx="80647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策略與定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3"/>
          <p:cNvGrpSpPr/>
          <p:nvPr/>
        </p:nvGrpSpPr>
        <p:grpSpPr>
          <a:xfrm>
            <a:off x="468360" y="1268280"/>
            <a:ext cx="8424360" cy="900000"/>
            <a:chOff x="468360" y="1268280"/>
            <a:chExt cx="8424360" cy="900000"/>
          </a:xfrm>
        </p:grpSpPr>
        <p:sp>
          <p:nvSpPr>
            <p:cNvPr id="152" name="AutoShape 4"/>
            <p:cNvSpPr/>
            <p:nvPr/>
          </p:nvSpPr>
          <p:spPr>
            <a:xfrm>
              <a:off x="735480" y="1288080"/>
              <a:ext cx="8157240" cy="840240"/>
            </a:xfrm>
            <a:prstGeom prst="roundRect">
              <a:avLst>
                <a:gd name="adj" fmla="val 50000"/>
              </a:avLst>
            </a:prstGeom>
            <a:solidFill>
              <a:srgbClr val="63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培養業者間合作共識，藉由聯盟的運作，分享市場情報、資訊，增進業者間資源的整合及分工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>
              <a:off x="468360" y="1268280"/>
              <a:ext cx="515520" cy="900000"/>
            </a:xfrm>
            <a:prstGeom prst="ellipse">
              <a:avLst/>
            </a:prstGeom>
            <a:solidFill>
              <a:srgbClr val="d973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6"/>
          <p:cNvGrpSpPr/>
          <p:nvPr/>
        </p:nvGrpSpPr>
        <p:grpSpPr>
          <a:xfrm>
            <a:off x="431640" y="3284640"/>
            <a:ext cx="8424720" cy="899640"/>
            <a:chOff x="431640" y="3284640"/>
            <a:chExt cx="8424720" cy="899640"/>
          </a:xfrm>
        </p:grpSpPr>
        <p:sp>
          <p:nvSpPr>
            <p:cNvPr id="155" name="AutoShape 7"/>
            <p:cNvSpPr/>
            <p:nvPr/>
          </p:nvSpPr>
          <p:spPr>
            <a:xfrm>
              <a:off x="698760" y="3304440"/>
              <a:ext cx="8157600" cy="839880"/>
            </a:xfrm>
            <a:prstGeom prst="roundRect">
              <a:avLst>
                <a:gd name="adj" fmla="val 50000"/>
              </a:avLst>
            </a:prstGeom>
            <a:solidFill>
              <a:srgbClr val="63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促成兩岸行動應用相關資源的廣泛交流，並加入相關的組織，以掌握最新的技術或市場情報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8"/>
            <p:cNvSpPr/>
            <p:nvPr/>
          </p:nvSpPr>
          <p:spPr>
            <a:xfrm>
              <a:off x="431640" y="3284640"/>
              <a:ext cx="515520" cy="899640"/>
            </a:xfrm>
            <a:prstGeom prst="ellipse">
              <a:avLst/>
            </a:prstGeom>
            <a:solidFill>
              <a:srgbClr val="d973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9"/>
          <p:cNvGrpSpPr/>
          <p:nvPr/>
        </p:nvGrpSpPr>
        <p:grpSpPr>
          <a:xfrm>
            <a:off x="431640" y="4292640"/>
            <a:ext cx="8424720" cy="899640"/>
            <a:chOff x="431640" y="4292640"/>
            <a:chExt cx="8424720" cy="899640"/>
          </a:xfrm>
        </p:grpSpPr>
        <p:sp>
          <p:nvSpPr>
            <p:cNvPr id="158" name="AutoShape 10"/>
            <p:cNvSpPr/>
            <p:nvPr/>
          </p:nvSpPr>
          <p:spPr>
            <a:xfrm>
              <a:off x="698760" y="4312440"/>
              <a:ext cx="8157600" cy="839880"/>
            </a:xfrm>
            <a:prstGeom prst="roundRect">
              <a:avLst>
                <a:gd name="adj" fmla="val 50000"/>
              </a:avLst>
            </a:prstGeom>
            <a:solidFill>
              <a:srgbClr val="63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提升拓展國際市場機會：以團隊方式拓展國際，減少成本及風險，提供國際媒合交流的機會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11"/>
            <p:cNvSpPr/>
            <p:nvPr/>
          </p:nvSpPr>
          <p:spPr>
            <a:xfrm>
              <a:off x="431640" y="4292640"/>
              <a:ext cx="515520" cy="899640"/>
            </a:xfrm>
            <a:prstGeom prst="ellipse">
              <a:avLst/>
            </a:prstGeom>
            <a:solidFill>
              <a:srgbClr val="d973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31640" y="5300640"/>
            <a:ext cx="8424720" cy="900000"/>
            <a:chOff x="431640" y="5300640"/>
            <a:chExt cx="8424720" cy="900000"/>
          </a:xfrm>
        </p:grpSpPr>
        <p:sp>
          <p:nvSpPr>
            <p:cNvPr id="161" name="AutoShape 13"/>
            <p:cNvSpPr/>
            <p:nvPr/>
          </p:nvSpPr>
          <p:spPr>
            <a:xfrm>
              <a:off x="698760" y="5319360"/>
              <a:ext cx="8157600" cy="840960"/>
            </a:xfrm>
            <a:prstGeom prst="roundRect">
              <a:avLst>
                <a:gd name="adj" fmla="val 50000"/>
              </a:avLst>
            </a:prstGeom>
            <a:solidFill>
              <a:srgbClr val="63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促成政府產業政策，建構良好產業及市場發展環境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14"/>
            <p:cNvSpPr/>
            <p:nvPr/>
          </p:nvSpPr>
          <p:spPr>
            <a:xfrm>
              <a:off x="431640" y="5300640"/>
              <a:ext cx="515880" cy="900000"/>
            </a:xfrm>
            <a:prstGeom prst="ellipse">
              <a:avLst/>
            </a:prstGeom>
            <a:solidFill>
              <a:srgbClr val="d973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39640" y="0"/>
            <a:ext cx="80647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主要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431640" y="2276640"/>
            <a:ext cx="8424720" cy="899640"/>
            <a:chOff x="431640" y="2276640"/>
            <a:chExt cx="8424720" cy="899640"/>
          </a:xfrm>
        </p:grpSpPr>
        <p:sp>
          <p:nvSpPr>
            <p:cNvPr id="165" name="AutoShape 7"/>
            <p:cNvSpPr/>
            <p:nvPr/>
          </p:nvSpPr>
          <p:spPr>
            <a:xfrm>
              <a:off x="698760" y="2296440"/>
              <a:ext cx="8157600" cy="839880"/>
            </a:xfrm>
            <a:prstGeom prst="roundRect">
              <a:avLst>
                <a:gd name="adj" fmla="val 50000"/>
              </a:avLst>
            </a:prstGeom>
            <a:solidFill>
              <a:srgbClr val="639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4280" bIns="4428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整合跨領域與產業上中下游業者，透過聯盟，整合與分享各界資源，共創商機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8"/>
            <p:cNvSpPr/>
            <p:nvPr/>
          </p:nvSpPr>
          <p:spPr>
            <a:xfrm>
              <a:off x="431640" y="2276640"/>
              <a:ext cx="515520" cy="899640"/>
            </a:xfrm>
            <a:prstGeom prst="ellipse">
              <a:avLst/>
            </a:prstGeom>
            <a:solidFill>
              <a:srgbClr val="d973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1125360"/>
            <a:ext cx="80643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組織架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863720" y="5083200"/>
            <a:ext cx="1376280" cy="1235160"/>
          </a:xfrm>
          <a:prstGeom prst="rect">
            <a:avLst/>
          </a:prstGeom>
          <a:solidFill>
            <a:srgbClr val="cc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國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合作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492360" y="2133720"/>
            <a:ext cx="2009880" cy="566640"/>
          </a:xfrm>
          <a:prstGeom prst="rect">
            <a:avLst/>
          </a:prstGeom>
          <a:solidFill>
            <a:srgbClr val="99cc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0066"/>
                </a:solidFill>
                <a:latin typeface="Times New Roman"/>
                <a:ea typeface="標楷體"/>
              </a:rPr>
              <a:t>會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45080" y="5083200"/>
            <a:ext cx="1374480" cy="1235160"/>
          </a:xfrm>
          <a:prstGeom prst="rect">
            <a:avLst/>
          </a:prstGeom>
          <a:solidFill>
            <a:srgbClr val="cc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  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兩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發展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7192800" y="5083200"/>
            <a:ext cx="1376640" cy="1235160"/>
          </a:xfrm>
          <a:prstGeom prst="rect">
            <a:avLst/>
          </a:prstGeom>
          <a:solidFill>
            <a:srgbClr val="cc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  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法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事務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20"/>
          <p:cNvCxnSpPr>
            <a:endCxn id="168" idx="0"/>
          </p:cNvCxnSpPr>
          <p:nvPr/>
        </p:nvCxnSpPr>
        <p:spPr>
          <a:xfrm rot="5400000">
            <a:off x="2328840" y="2896920"/>
            <a:ext cx="2400840" cy="1953000"/>
          </a:xfrm>
          <a:prstGeom prst="bentConnector3">
            <a:avLst>
              <a:gd name="adj1" fmla="val 50194"/>
            </a:avLst>
          </a:prstGeom>
          <a:ln w="31680">
            <a:solidFill>
              <a:srgbClr val="969696"/>
            </a:solidFill>
            <a:miter/>
          </a:ln>
        </p:spPr>
      </p:cxnSp>
      <p:cxnSp>
        <p:nvCxnSpPr>
          <p:cNvPr id="173" name="AutoShape 22"/>
          <p:cNvCxnSpPr>
            <a:stCxn id="169" idx="2"/>
            <a:endCxn id="170" idx="0"/>
          </p:cNvCxnSpPr>
          <p:nvPr/>
        </p:nvCxnSpPr>
        <p:spPr>
          <a:xfrm rot="5400000">
            <a:off x="3282120" y="3859200"/>
            <a:ext cx="2364480" cy="65520"/>
          </a:xfrm>
          <a:prstGeom prst="bentConnector3">
            <a:avLst>
              <a:gd name="adj1" fmla="val 49961"/>
            </a:avLst>
          </a:prstGeom>
          <a:ln w="31680">
            <a:solidFill>
              <a:srgbClr val="969696"/>
            </a:solidFill>
            <a:miter/>
          </a:ln>
        </p:spPr>
      </p:cxnSp>
      <p:cxnSp>
        <p:nvCxnSpPr>
          <p:cNvPr id="174" name="AutoShape 23"/>
          <p:cNvCxnSpPr>
            <a:stCxn id="169" idx="2"/>
            <a:endCxn id="171" idx="0"/>
          </p:cNvCxnSpPr>
          <p:nvPr/>
        </p:nvCxnSpPr>
        <p:spPr>
          <a:xfrm flipH="1" rot="16200000">
            <a:off x="5006880" y="2199240"/>
            <a:ext cx="2364480" cy="3385080"/>
          </a:xfrm>
          <a:prstGeom prst="bentConnector3">
            <a:avLst>
              <a:gd name="adj1" fmla="val 49961"/>
            </a:avLst>
          </a:prstGeom>
          <a:ln w="31680">
            <a:solidFill>
              <a:srgbClr val="969696"/>
            </a:solidFill>
            <a:miter/>
          </a:ln>
        </p:spPr>
      </p:cxnSp>
      <p:sp>
        <p:nvSpPr>
          <p:cNvPr id="175" name="Rectangle 9"/>
          <p:cNvSpPr/>
          <p:nvPr/>
        </p:nvSpPr>
        <p:spPr>
          <a:xfrm>
            <a:off x="5394240" y="5110200"/>
            <a:ext cx="1374840" cy="1235160"/>
          </a:xfrm>
          <a:prstGeom prst="rect">
            <a:avLst/>
          </a:prstGeom>
          <a:solidFill>
            <a:srgbClr val="ccffff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  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產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  <a:ea typeface="標楷體"/>
              </a:rPr>
              <a:t>發展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3141720"/>
            <a:ext cx="194292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6443640" y="2674800"/>
            <a:ext cx="1513080" cy="935280"/>
          </a:xfrm>
          <a:prstGeom prst="rect">
            <a:avLst/>
          </a:prstGeom>
          <a:solidFill>
            <a:srgbClr val="ffcc99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秘書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21"/>
          <p:cNvCxnSpPr/>
          <p:nvPr/>
        </p:nvCxnSpPr>
        <p:spPr>
          <a:xfrm>
            <a:off x="4535640" y="3881520"/>
            <a:ext cx="1581840" cy="1240560"/>
          </a:xfrm>
          <a:prstGeom prst="bentConnector2">
            <a:avLst/>
          </a:prstGeom>
          <a:ln w="31680">
            <a:solidFill>
              <a:srgbClr val="96969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7201080" y="3003480"/>
            <a:ext cx="1584000" cy="1800360"/>
          </a:xfrm>
          <a:prstGeom prst="rect">
            <a:avLst/>
          </a:prstGeom>
          <a:solidFill>
            <a:srgbClr val="a1a646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200" rIns="43200" tIns="42120" bIns="4212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數位遊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電腦動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數位影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數位出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數位學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  <a:ea typeface="標楷體"/>
              </a:rPr>
              <a:t>數位典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3"/>
          <p:cNvSpPr/>
          <p:nvPr/>
        </p:nvSpPr>
        <p:spPr>
          <a:xfrm rot="10800000">
            <a:off x="7198920" y="2409480"/>
            <a:ext cx="1585800" cy="593640"/>
          </a:xfrm>
          <a:prstGeom prst="roundRect">
            <a:avLst>
              <a:gd name="adj" fmla="val 31926"/>
            </a:avLst>
          </a:prstGeom>
          <a:solidFill>
            <a:srgbClr val="808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 rot="10800000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標楷體"/>
              </a:rPr>
              <a:t>Cont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892760" y="2930400"/>
            <a:ext cx="1838160" cy="2014560"/>
          </a:xfrm>
          <a:prstGeom prst="rect">
            <a:avLst/>
          </a:prstGeom>
          <a:solidFill>
            <a:srgbClr val="527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行動生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行動娛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行動學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行動商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3"/>
          <p:cNvSpPr/>
          <p:nvPr/>
        </p:nvSpPr>
        <p:spPr>
          <a:xfrm rot="10800000">
            <a:off x="4892400" y="2354040"/>
            <a:ext cx="1693800" cy="595080"/>
          </a:xfrm>
          <a:prstGeom prst="roundRect">
            <a:avLst>
              <a:gd name="adj" fmla="val 31926"/>
            </a:avLst>
          </a:prstGeom>
          <a:solidFill>
            <a:srgbClr val="00008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 rot="10800000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標楷體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2195640" y="2930400"/>
            <a:ext cx="1836720" cy="20145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電子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智慧型手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電信業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平台業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3"/>
          <p:cNvSpPr/>
          <p:nvPr/>
        </p:nvSpPr>
        <p:spPr>
          <a:xfrm rot="10800000">
            <a:off x="2195640" y="2354040"/>
            <a:ext cx="1836720" cy="608040"/>
          </a:xfrm>
          <a:prstGeom prst="roundRect">
            <a:avLst>
              <a:gd name="adj" fmla="val 31926"/>
            </a:avLst>
          </a:prstGeom>
          <a:solidFill>
            <a:srgbClr val="8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 rot="10800000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ffff"/>
                </a:solidFill>
                <a:latin typeface="Times New Roman"/>
                <a:ea typeface="標楷體"/>
              </a:rPr>
              <a:t>新載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33480" y="56768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多元化應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15920"/>
            <a:ext cx="80647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預期效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9"/>
          <p:cNvSpPr/>
          <p:nvPr/>
        </p:nvSpPr>
        <p:spPr>
          <a:xfrm rot="10800000">
            <a:off x="5973480" y="4805280"/>
            <a:ext cx="2089080" cy="860400"/>
          </a:xfrm>
          <a:custGeom>
            <a:avLst/>
            <a:gdLst>
              <a:gd name="textAreaLeft" fmla="*/ 365400 w 2089080"/>
              <a:gd name="textAreaRight" fmla="*/ 1514520 w 2089080"/>
              <a:gd name="textAreaTop" fmla="*/ 115200 h 860400"/>
              <a:gd name="textAreaBottom" fmla="*/ 745200 h 860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274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3525480" y="4869000"/>
            <a:ext cx="2089080" cy="860400"/>
          </a:xfrm>
          <a:custGeom>
            <a:avLst/>
            <a:gdLst>
              <a:gd name="textAreaLeft" fmla="*/ 365400 w 2089080"/>
              <a:gd name="textAreaRight" fmla="*/ 1514520 w 2089080"/>
              <a:gd name="textAreaTop" fmla="*/ 115200 h 860400"/>
              <a:gd name="textAreaBottom" fmla="*/ 745200 h 860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274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86560" y="5702400"/>
            <a:ext cx="13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內容加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8720" y="577368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創新應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2496960"/>
            <a:ext cx="1403280" cy="2413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產業結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行銷國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Arial"/>
                <a:ea typeface="標楷體"/>
              </a:rPr>
              <a:t>創造商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9"/>
          <p:cNvSpPr/>
          <p:nvPr/>
        </p:nvSpPr>
        <p:spPr>
          <a:xfrm rot="10800000">
            <a:off x="537840" y="4876920"/>
            <a:ext cx="2089080" cy="860400"/>
          </a:xfrm>
          <a:custGeom>
            <a:avLst/>
            <a:gdLst>
              <a:gd name="textAreaLeft" fmla="*/ 365400 w 2089080"/>
              <a:gd name="textAreaRight" fmla="*/ 1514520 w 2089080"/>
              <a:gd name="textAreaTop" fmla="*/ 115200 h 860400"/>
              <a:gd name="textAreaBottom" fmla="*/ 745200 h 860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274a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76360" y="1233360"/>
            <a:ext cx="7821360" cy="916200"/>
          </a:xfrm>
          <a:prstGeom prst="rect">
            <a:avLst/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行動應用聯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9984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Verdana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2819520"/>
            <a:ext cx="366840" cy="457200"/>
          </a:xfrm>
          <a:custGeom>
            <a:avLst/>
            <a:gdLst/>
            <a:ahLst/>
            <a:rect l="l" t="t" r="r" b="b"/>
            <a:pathLst>
              <a:path w="48" h="432">
                <a:moveTo>
                  <a:pt x="0" y="0"/>
                </a:moveTo>
                <a:lnTo>
                  <a:pt x="0" y="432"/>
                </a:lnTo>
                <a:lnTo>
                  <a:pt x="48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559080" cy="609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981000"/>
            <a:ext cx="259092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558720" cy="609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133720" y="2286000"/>
            <a:ext cx="558720" cy="609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124000" y="3789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台灣電信市場概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0:25:13Z</dcterms:created>
  <dc:creator>user</dc:creator>
  <dc:description/>
  <dc:language>en-US</dc:language>
  <cp:lastModifiedBy>tammy</cp:lastModifiedBy>
  <dcterms:modified xsi:type="dcterms:W3CDTF">2010-09-04T08:27:38Z</dcterms:modified>
  <cp:revision>182</cp:revision>
  <dc:subject/>
  <dc:title>M-ADVERTISING CHANNEL</dc:title>
</cp:coreProperties>
</file>